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83B-E326-4521-B3A0-269FD830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0F6-39C4-42C8-B202-824E224B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40D-C4B1-45FD-9CD5-9AC06318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2D8-6FB4-47EC-82D6-EE49BAF4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806-28A1-4D78-BBE5-2E6D01D1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09C-B22E-4FB9-9F94-7CD2D20A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84A-FFAD-44E0-9DEA-2CCCF8EB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BFF-3F23-4245-B78F-F3E115C6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C89-BEFF-438C-BD76-F22C9FCE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2BA-EE41-4D93-827C-95291B5A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547-F585-44A8-8B49-91861051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D1E-73C6-47B2-B916-E03A8C0F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CD4D-EAD8-4E2D-80B8-094632A9E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rds.yahoo.com/_ylt=A0WTb_laPSRJVoEAjXijzbkF/SIG=127pft7rg/EXP=1227198170/**http%3A/www.ala.org/Images/ALSC/images/snowflake.jpg"/>
          <p:cNvPicPr/>
          <p:nvPr/>
        </p:nvPicPr>
        <p:blipFill>
          <a:blip r:embed="rId1"/>
          <a:stretch/>
        </p:blipFill>
        <p:spPr>
          <a:xfrm>
            <a:off x="1828800" y="609480"/>
            <a:ext cx="563868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Image:SnowflakesWilsonBentley.jpg"/>
          <p:cNvPicPr/>
          <p:nvPr/>
        </p:nvPicPr>
        <p:blipFill>
          <a:blip r:embed="rId1"/>
          <a:stretch/>
        </p:blipFill>
        <p:spPr>
          <a:xfrm>
            <a:off x="838080" y="487440"/>
            <a:ext cx="746784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its.caltech.edu/~atomic/snowcrystals/vermont/xSaksNewYork.jpg"/>
          <p:cNvPicPr/>
          <p:nvPr/>
        </p:nvPicPr>
        <p:blipFill>
          <a:blip r:embed="rId1"/>
          <a:stretch/>
        </p:blipFill>
        <p:spPr>
          <a:xfrm>
            <a:off x="380880" y="685800"/>
            <a:ext cx="558828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anigami.com/jimwich/jimwich_archives/jw_snowflakes_2004_2005/MensaNewsletterClipart.jpg"/>
          <p:cNvPicPr/>
          <p:nvPr/>
        </p:nvPicPr>
        <p:blipFill>
          <a:blip r:embed="rId2"/>
          <a:stretch/>
        </p:blipFill>
        <p:spPr>
          <a:xfrm>
            <a:off x="914400" y="2743200"/>
            <a:ext cx="362916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anigami.com/jimwich/jimwich_archives/jw_snowflakes_2004_2005/Sears_Flyer.jpg"/>
          <p:cNvPicPr/>
          <p:nvPr/>
        </p:nvPicPr>
        <p:blipFill>
          <a:blip r:embed="rId3"/>
          <a:stretch/>
        </p:blipFill>
        <p:spPr>
          <a:xfrm>
            <a:off x="5029200" y="419112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anigami.com/jimwich/jimwich_archives/jw_snowflakes_2004_2005/OldNavy_Flyer.jpg"/>
          <p:cNvPicPr/>
          <p:nvPr/>
        </p:nvPicPr>
        <p:blipFill>
          <a:blip r:embed="rId4"/>
          <a:stretch/>
        </p:blipFill>
        <p:spPr>
          <a:xfrm>
            <a:off x="2428920" y="685800"/>
            <a:ext cx="6715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lting 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“inquiry-based”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not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done to make each more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wat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schooltube.com/video/915b7e02b686405fa83c/Ice-Melting-Experiment--Jestangs-Science-Video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558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7162920" cy="945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181480" y="6019920"/>
            <a:ext cx="4876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1880" y="1295280"/>
            <a:ext cx="434340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uise Rosenbla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esthe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21:57Z</dcterms:created>
  <dc:creator>Edward Robeck</dc:creator>
  <dc:description/>
  <dc:language>en-US</dc:language>
  <cp:lastModifiedBy>Information Technology</cp:lastModifiedBy>
  <dcterms:modified xsi:type="dcterms:W3CDTF">2010-03-01T18:45:59Z</dcterms:modified>
  <cp:revision>7</cp:revision>
  <dc:subject/>
  <dc:title>Slide 1</dc:title>
</cp:coreProperties>
</file>